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6E38-B547-44A5-992B-0E28AAA050B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BEE4-1B32-474E-B967-289CB6133645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8C6D-4C82-442F-A763-E494CF137468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CFA-F84E-48F0-990B-C3092AF2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042-1140-43DB-B6A1-FE8298A7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52C-7419-4987-97C0-4EDA95D6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A00-B36B-4465-AC89-525964F5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DE9-5404-4D4F-AB57-C95EB616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2A3-2838-455B-B5C5-66BBB0D0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0B35-48D6-4378-A0A8-47E10D37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2BE-4BA6-4145-A065-7ADF6B4F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B37-2BF8-4A83-860D-2C4C5A1A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ECC-107C-4BC3-BC96-F12961C2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849-8C2D-4542-B224-7116EC4D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8DB-F2AA-465F-964B-B9B449BF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046F-6E1D-485C-A233-7B43EEE378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Strategia przedsiębiorstwa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Strategia konkurencji oraz pozycjonowanie firmy na tle konkuren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Definicja strategii przedsiębiorstwa</a:t>
            </a:r>
            <a:endParaRPr b="1" lang="en-US" sz="4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22050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rategia przedsiębiorstwa to zespół skoordynowanych, dostosowanych do sytuacji firmy oraz otoczenia, sposobów osiągnięcia celów tego przedsiębiorst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539640" y="5661000"/>
            <a:ext cx="813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  <a:ea typeface="Arial"/>
              </a:rPr>
              <a:t>Źródło: Pierścionek, Z., 1998, Strategie Rozwoju Firmy, Wydawnictwo Naukowe PWN, Warszaw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Definicja strategii konkurencji</a:t>
            </a:r>
            <a:endParaRPr b="1" lang="en-US" sz="4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ługofalowa koncepcja polegającą na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kreśleniu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ożliwych i priorytetowych obszarów konkurowania, rynków i segmentów rynk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zachowania się przedsiębiorstwa wob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urentów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stawy konkurowani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źródeł przewagi konkurencyj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Źródło: Porter M. E.: Strategia konkurencji. Metody analizy sektorów i konkurentów. PWE, Warszawa 199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19320" y="1803240"/>
            <a:ext cx="3251160" cy="171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876920" y="3803760"/>
            <a:ext cx="3251160" cy="1714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219320" y="3809880"/>
            <a:ext cx="3251160" cy="171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876920" y="1803240"/>
            <a:ext cx="3251160" cy="171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1492200" y="2341440"/>
            <a:ext cx="278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zywództwo jakościow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5143680" y="4500720"/>
            <a:ext cx="278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zywództwo kosztow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1392120" y="4654440"/>
            <a:ext cx="278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rak strateg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143680" y="2376360"/>
            <a:ext cx="278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Strategia zintegrowa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12"/>
          <p:cNvSpPr/>
          <p:nvPr/>
        </p:nvSpPr>
        <p:spPr>
          <a:xfrm rot="16200000">
            <a:off x="5964840" y="3464280"/>
            <a:ext cx="1428840" cy="500040"/>
          </a:xfrm>
          <a:prstGeom prst="rightArrow">
            <a:avLst>
              <a:gd name="adj1" fmla="val 50000"/>
              <a:gd name="adj2" fmla="val 132263"/>
            </a:avLst>
          </a:prstGeom>
          <a:solidFill>
            <a:srgbClr val="215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14"/>
          <p:cNvSpPr/>
          <p:nvPr/>
        </p:nvSpPr>
        <p:spPr>
          <a:xfrm>
            <a:off x="2786040" y="4203720"/>
            <a:ext cx="3643200" cy="285840"/>
          </a:xfrm>
          <a:prstGeom prst="rightArrow">
            <a:avLst>
              <a:gd name="adj1" fmla="val 50000"/>
              <a:gd name="adj2" fmla="val 408921"/>
            </a:avLst>
          </a:prstGeom>
          <a:solidFill>
            <a:srgbClr val="215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2857680" y="3067200"/>
            <a:ext cx="3500280" cy="285480"/>
          </a:xfrm>
          <a:prstGeom prst="rightArrow">
            <a:avLst>
              <a:gd name="adj1" fmla="val 50000"/>
              <a:gd name="adj2" fmla="val 409439"/>
            </a:avLst>
          </a:prstGeom>
          <a:solidFill>
            <a:srgbClr val="215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6"/>
          <p:cNvSpPr/>
          <p:nvPr/>
        </p:nvSpPr>
        <p:spPr>
          <a:xfrm rot="16200000">
            <a:off x="2648880" y="7393680"/>
            <a:ext cx="4600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2533320" y="5667480"/>
            <a:ext cx="393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ncentracja na koszt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8"/>
          <p:cNvSpPr/>
          <p:nvPr/>
        </p:nvSpPr>
        <p:spPr>
          <a:xfrm rot="16200000">
            <a:off x="-1072800" y="337968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ncentracja na jak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974880" y="5985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Modele strategii konkurencji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 rot="16200000">
            <a:off x="1607400" y="3464280"/>
            <a:ext cx="1428840" cy="500040"/>
          </a:xfrm>
          <a:prstGeom prst="rightArrow">
            <a:avLst>
              <a:gd name="adj1" fmla="val 50000"/>
              <a:gd name="adj2" fmla="val 132263"/>
            </a:avLst>
          </a:prstGeom>
          <a:solidFill>
            <a:srgbClr val="215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3"/>
          <p:cNvSpPr/>
          <p:nvPr/>
        </p:nvSpPr>
        <p:spPr>
          <a:xfrm>
            <a:off x="250920" y="6093000"/>
            <a:ext cx="88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  <a:ea typeface="Arial"/>
              </a:rPr>
              <a:t>Źródło: Romanowska, M., 2000, Startegie rozwoju i konkurencji, CIM, Warszaw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Przewagi konkurencyjne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76" name="Diagram 1" descr=""/>
          <p:cNvPicPr/>
          <p:nvPr/>
        </p:nvPicPr>
        <p:blipFill>
          <a:blip r:embed="rId1"/>
          <a:stretch/>
        </p:blipFill>
        <p:spPr>
          <a:xfrm>
            <a:off x="1463760" y="1700280"/>
            <a:ext cx="6119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Strategia przywództwa kosztowego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78" name="Diagram 3" descr=""/>
          <p:cNvPicPr/>
          <p:nvPr/>
        </p:nvPicPr>
        <p:blipFill>
          <a:blip r:embed="rId1"/>
          <a:stretch/>
        </p:blipFill>
        <p:spPr>
          <a:xfrm>
            <a:off x="237960" y="1090440"/>
            <a:ext cx="891864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Strategia przywództwa jakościowego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80" name="Diagram 3" descr=""/>
          <p:cNvPicPr/>
          <p:nvPr/>
        </p:nvPicPr>
        <p:blipFill>
          <a:blip r:embed="rId1"/>
          <a:stretch/>
        </p:blipFill>
        <p:spPr>
          <a:xfrm>
            <a:off x="311040" y="1487520"/>
            <a:ext cx="80154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Pozycjonowanie na rynku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Jest to działanie związane z kształtowaniem oferty i wizerunku przedsiębiorstwa, prowadzące do zajęcia wyraźnego, znaczącego miejsca w pamięci odbiorców docelow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rategiczne możliwości pozycjonowan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zmocnienie dotychczasowej własnej pozycji w świadomości odbiorc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szukiwanie nowej, nie zdobytej jeszcze pozycji w świadomości dużej liczby odbiorców i przechwycenie je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iana pozycjonowania (wizerunku) konkurent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ejście do ekskluzywnej grup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User</cp:lastModifiedBy>
  <dcterms:modified xsi:type="dcterms:W3CDTF">2014-04-12T21:56:28Z</dcterms:modified>
  <cp:revision>24</cp:revision>
  <dc:subject/>
  <dc:title>Slajd 1</dc:title>
</cp:coreProperties>
</file>